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C4D-A63D-475D-AAC3-E7448EB4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5AB-7B3B-4F30-A21E-3AC574A1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6580-924A-4B7B-8F7E-7AF09C6A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9A62-5818-4767-8D87-3718E3FF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2A0-3159-4BA8-BB33-2AED5D5E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0AE-06BC-4E4B-B28F-E69B01D0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8416-E65D-4493-993F-302407E9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D85-D35F-4D3D-A505-DA56186D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7032-7EE4-464D-9AD4-6FA3ED7D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C40-6D61-4EB3-81BB-694F78B7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B730-DA84-40F2-B322-F9041454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D70-1127-4311-9A07-45CD3AC1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E684-1A71-4B8F-B642-65B3158D7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6934320" cy="59436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400440" y="6095880"/>
            <a:ext cx="2209680" cy="642600"/>
            <a:chOff x="6400440" y="6095880"/>
            <a:chExt cx="2209680" cy="642600"/>
          </a:xfrm>
        </p:grpSpPr>
        <p:sp>
          <p:nvSpPr>
            <p:cNvPr id="43" name=""/>
            <p:cNvSpPr/>
            <p:nvPr/>
          </p:nvSpPr>
          <p:spPr>
            <a:xfrm flipH="1">
              <a:off x="6400440" y="6324480"/>
              <a:ext cx="45684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857640" y="6095880"/>
              <a:ext cx="175248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≈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 @ 1mint  is ok as it i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400440" y="3581280"/>
            <a:ext cx="2514600" cy="824040"/>
            <a:chOff x="6400440" y="3581280"/>
            <a:chExt cx="2514600" cy="824040"/>
          </a:xfrm>
        </p:grpSpPr>
        <p:sp>
          <p:nvSpPr>
            <p:cNvPr id="46" name=""/>
            <p:cNvSpPr/>
            <p:nvPr/>
          </p:nvSpPr>
          <p:spPr>
            <a:xfrm flipH="1">
              <a:off x="6400440" y="3809880"/>
              <a:ext cx="6490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49880" y="3581280"/>
              <a:ext cx="186516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 @ 15mint lightgreen in cen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324120" y="2514600"/>
            <a:ext cx="2590920" cy="580680"/>
            <a:chOff x="6324120" y="2514600"/>
            <a:chExt cx="2590920" cy="580680"/>
          </a:xfrm>
        </p:grpSpPr>
        <p:sp>
          <p:nvSpPr>
            <p:cNvPr id="49" name=""/>
            <p:cNvSpPr/>
            <p:nvPr/>
          </p:nvSpPr>
          <p:spPr>
            <a:xfrm flipH="1">
              <a:off x="6324120" y="2743200"/>
              <a:ext cx="6685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3000" y="2514600"/>
              <a:ext cx="1922040" cy="58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16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 @ 30mint light red in cen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324120" y="1523880"/>
            <a:ext cx="2590920" cy="520200"/>
            <a:chOff x="6324120" y="1523880"/>
            <a:chExt cx="2590920" cy="520200"/>
          </a:xfrm>
        </p:grpSpPr>
        <p:sp>
          <p:nvSpPr>
            <p:cNvPr id="52" name=""/>
            <p:cNvSpPr/>
            <p:nvPr/>
          </p:nvSpPr>
          <p:spPr>
            <a:xfrm flipH="1">
              <a:off x="6324120" y="1752480"/>
              <a:ext cx="6685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993000" y="1523880"/>
              <a:ext cx="1922040" cy="52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 @ 50mint dark red color on cente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1143000" y="3049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522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mint plot of can heating from 25 to 127 °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52480" y="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mperature profile inside the can at different times during Cherry pomace Retor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1066680"/>
            <a:ext cx="8762760" cy="5791320"/>
            <a:chOff x="0" y="1066680"/>
            <a:chExt cx="8762760" cy="579132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4965480" y="3962520"/>
              <a:ext cx="379728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4892760" y="1219320"/>
              <a:ext cx="3870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0" y="1066680"/>
              <a:ext cx="38700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0" y="3962520"/>
              <a:ext cx="38700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3724200" y="2666880"/>
              <a:ext cx="16066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51120" y="5257800"/>
              <a:ext cx="160668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get the color change( for the can) based on time and referring to the first Mint as I showed in first slide on the color legen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mean as in slide 2 at time 15 mint the center temperature should be light green( 8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°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going out to yellow light red and dark red ( As shown in first slide for the can at 1 mi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for time at 50 mint( 125.8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°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t should be red to dark 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any way to do that and control the color based on time of heating and refering to the first mint of heating legend color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22:35:47Z</dcterms:created>
  <dc:creator>greibyib</dc:creator>
  <dc:description/>
  <dc:language>en-US</dc:language>
  <cp:lastModifiedBy>greibyib</cp:lastModifiedBy>
  <dcterms:modified xsi:type="dcterms:W3CDTF">2011-05-05T17:44:16Z</dcterms:modified>
  <cp:revision>4</cp:revision>
  <dc:subject/>
  <dc:title>Slide 1</dc:title>
</cp:coreProperties>
</file>